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04C-2049-4E00-BB88-DC9BE71C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3DD6-DFC6-4ECE-AB92-E861861C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9B5-0698-402C-B783-9E059EC0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77C-C61E-4C32-BA7C-A8FCE3DA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3E5-391C-4424-B5F0-3B383336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E36-7DBC-4555-A98B-1D76A2B8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3CD-0EE2-40A0-A7E7-4CB9C823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A56-1F02-4DAF-AF17-34146F96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0B8-4A1E-4393-AAAD-C327BFBC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4DB-AD3C-4A1F-821A-F78E1867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7A0-8624-4B23-B8B3-E3C985D1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BE0-E64A-4DE1-9D9B-8834E8BB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A505-90D0-4030-828B-6CBB7CCC9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ting Percents to Fractions in Lowest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cent means “out of a hundr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percent can be written as a fraction with 100 as the denominato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35 % can be written a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5638680" y="2666880"/>
                <a:ext cx="9064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1295280" y="5334120"/>
            <a:ext cx="63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not written in lowest terms since there is a number that will divide into both eve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8120" y="1295280"/>
            <a:ext cx="38088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7440" y="685800"/>
            <a:ext cx="4371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ust memorize the factors of 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, 4, 5, 10, 20, 25 and 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0804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362320" y="2362320"/>
                <a:ext cx="9064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80880" y="4876920"/>
            <a:ext cx="815364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st factor of 100 that will divide evenly into 35 is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2096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both the numerator and denominator by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352680" y="2438280"/>
                <a:ext cx="6908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352680" y="3124080"/>
                <a:ext cx="6908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6248520" y="1397160"/>
            <a:ext cx="137160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397160"/>
            <a:ext cx="9907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724280" y="2362320"/>
                <a:ext cx="10368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248520" y="2666880"/>
            <a:ext cx="19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now in lowest te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try this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4680" y="1752480"/>
            <a:ext cx="151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9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581280" y="1371600"/>
                <a:ext cx="1216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899600" y="1981080"/>
            <a:ext cx="42436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actors of 100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, 4, 5, 10, 20, 25 and 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053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 is not even, so 2 or 4 will not go into it eve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 has to end in 0 or 5 for 5 to go into it eve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 has to end in 0 for ten or twenty to go into it eve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 has to end in 00, 25, 50 or 75 for 25 to go into it eve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erator has to end in 50 or 00 for 50 to go into it eve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e of these conditions apply so the fraction will not redu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7640" y="5715000"/>
            <a:ext cx="704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raction is in lowest ter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22:13:44Z</dcterms:created>
  <dc:creator>admin</dc:creator>
  <dc:description/>
  <dc:language>en-US</dc:language>
  <cp:lastModifiedBy>admin</cp:lastModifiedBy>
  <dcterms:modified xsi:type="dcterms:W3CDTF">2007-12-12T22:39:32Z</dcterms:modified>
  <cp:revision>2</cp:revision>
  <dc:subject/>
  <dc:title>Converting Percents to Fractions in Lowest Terms</dc:title>
</cp:coreProperties>
</file>